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FBE-E32D-4B61-BA25-D3408C43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830-FECC-42F9-8A6D-88885415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89A-890B-4E01-8C2E-1EC1EE7A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6F1-915C-42C0-9BFD-48116464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68A-56E5-4B4A-80B1-A07791BF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D89-48EB-4750-BDF5-FCA6F9CB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66F-EBB1-42CE-B64E-58360704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D5F-65F1-47F3-82F1-EF77D639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46E-FBAE-4646-9B09-86D48210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DE3-8085-405F-83A7-04DCA3CE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EE1-A16E-4CC6-8AB0-08D3B5B6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A17-34EA-4DF8-8DCC-C4DFE99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3D14-208E-492D-8D9F-D1BB80623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990720"/>
            <a:ext cx="777240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imperfecto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preterito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375360" y="589284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. 2 ch.10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808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ne of the usages of the imperfect is to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set the scen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..when </a:t>
            </a:r>
            <a:r>
              <a:rPr b="0" i="1" lang="en-US" sz="3600" spc="-1" strike="noStrike">
                <a:solidFill>
                  <a:srgbClr val="990099"/>
                </a:solidFill>
                <a:latin typeface="Times New Roman"/>
              </a:rPr>
              <a:t>something specific happens or interrupt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590920"/>
            <a:ext cx="60199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as watch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the floor when he </a:t>
            </a:r>
            <a:r>
              <a:rPr b="1" i="1" lang="en-US" sz="4000" spc="-1" strike="noStrike">
                <a:solidFill>
                  <a:srgbClr val="990099"/>
                </a:solidFill>
                <a:latin typeface="Times New Roman"/>
              </a:rPr>
              <a:t>saw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the inse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Él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miraba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el suelo cuando </a:t>
            </a:r>
            <a:r>
              <a:rPr b="1" i="1" lang="en-US" sz="4000" spc="-1" strike="noStrike">
                <a:solidFill>
                  <a:srgbClr val="990099"/>
                </a:solidFill>
                <a:latin typeface="Times New Roman"/>
              </a:rPr>
              <a:t>vio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el insect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2362320"/>
          <a:ext cx="190512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362320"/>
                    <a:ext cx="19051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791320" cy="3585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the scene for another past a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1814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dos los niños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iraba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cuando el castillo se rompi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228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ell what was happening at a certain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181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arlos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anejab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a Chicago cuando empezó a llo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27840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ecemos con el infinitivo.  Quitemos la term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33520"/>
            <a:ext cx="7162920" cy="761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523880"/>
            <a:ext cx="1218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152388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150984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2895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ñadamos la terminación nueva para el imperfec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743200"/>
            <a:ext cx="7162920" cy="7621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96252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á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396252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3962520"/>
            <a:ext cx="2666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886200"/>
            <a:ext cx="327672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8862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¡Hay sol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80880"/>
            <a:ext cx="6415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s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bos irregula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676520"/>
            <a:ext cx="2819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   ér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    e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297160"/>
            <a:ext cx="2971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     íb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       i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320040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    veí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     veí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2209680"/>
            <a:ext cx="2971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048120"/>
            <a:ext cx="3047760" cy="350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1676520"/>
            <a:ext cx="2819160" cy="32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76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tch out for these verbs that have different meanings in </a:t>
            </a:r>
            <a:r>
              <a:rPr b="1" i="1" lang="en-US" sz="3600" spc="-1" strike="noStrike">
                <a:solidFill>
                  <a:srgbClr val="990099"/>
                </a:solidFill>
                <a:latin typeface="Times New Roman"/>
              </a:rPr>
              <a:t>the preterit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than in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he imperfec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1828800"/>
            <a:ext cx="289584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o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r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fer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868400"/>
            <a:ext cx="36576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foun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m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refused (neg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managed, fa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recie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became, “go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caught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prefer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1828800"/>
            <a:ext cx="33526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new (info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new (a pers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ad the 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ssessed, h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came, “got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nderst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01:01:08Z</dcterms:created>
  <dc:creator>LAHS</dc:creator>
  <dc:description/>
  <dc:language>en-US</dc:language>
  <cp:lastModifiedBy>Jeff</cp:lastModifiedBy>
  <dcterms:modified xsi:type="dcterms:W3CDTF">2005-07-24T02:57:23Z</dcterms:modified>
  <cp:revision>25</cp:revision>
  <dc:subject/>
  <dc:title>No Slide Title</dc:title>
</cp:coreProperties>
</file>